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98D1-C4E6-43F0-8779-577D486C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E229-0662-4B27-B67D-0F3DE9A2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D239-F7E4-4255-B369-5B89BDC9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BD6E-949A-4C1A-8DBF-7FA23032F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D465-16A5-44A3-ABEB-A3FE975B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F90B-E5D5-4347-B492-DCC77815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0934-5D8C-4F5D-A538-1833C9F5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3223-0BC9-4FC0-9D1A-3EDAAB71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9BC5-5885-4C02-99D1-DD4FACA9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6C0E-404B-4877-B80B-58CB52B1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DB5A-1989-40DB-873F-43EDFC8C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D344-FCBE-4530-8A6E-0B934749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2B75-3ED5-45A5-A084-E29B119C39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нятие 3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ВЯТОЙ – ЗНАЧИТ ОСВЯЩЁННЫ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F:\00. УРОКИ 2013-2914\01. ДНК\2-год обучения от 14.03. 2012 год\1-10 уроки. Святая Русь от 12.03.2012\2 урок\02. Святой.jpg"/>
          <p:cNvPicPr/>
          <p:nvPr/>
        </p:nvPicPr>
        <p:blipFill>
          <a:blip r:embed="rId1"/>
          <a:stretch/>
        </p:blipFill>
        <p:spPr>
          <a:xfrm>
            <a:off x="762120" y="1295280"/>
            <a:ext cx="7543800" cy="55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4114800" cy="20574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Преподобная</a:t>
            </a:r>
            <a:br>
              <a:rPr sz="4400"/>
            </a:b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Мария</a:t>
            </a:r>
            <a:br>
              <a:rPr sz="4400"/>
            </a:b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Египет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F:\00. УРОКИ 2013-2914\01. ДНК\2-год обучения от 14.03. 2012 год\1-10 уроки. Святая Русь от 12.03.2012\2 урок\12. Преп Мария Египетская.jpg"/>
          <p:cNvPicPr/>
          <p:nvPr/>
        </p:nvPicPr>
        <p:blipFill>
          <a:blip r:embed="rId1"/>
          <a:srcRect l="0" t="0" r="0" b="1937"/>
          <a:stretch/>
        </p:blipFill>
        <p:spPr>
          <a:xfrm>
            <a:off x="4789440" y="0"/>
            <a:ext cx="4354560" cy="685800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:\00. УРОКИ 2013-2914\01. ДНК\2-год обучения от 14.03. 2012 год\1-10 уроки. Святая Русь от 12.03.2012\2 урок\17. Дела и житие Сергия Радонежского.jpg"/>
          <p:cNvPicPr/>
          <p:nvPr/>
        </p:nvPicPr>
        <p:blipFill>
          <a:blip r:embed="rId1"/>
          <a:stretch/>
        </p:blipFill>
        <p:spPr>
          <a:xfrm>
            <a:off x="1143000" y="0"/>
            <a:ext cx="734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72000" cy="66294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имб изображает сияние света и славы Божией, которая преображает человека, соединившегося с Бого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F:\00. УРОКИ 2013-2914\01. ДНК\2-год обучения от 14.03. 2012 год\1-10 уроки. Святая Русь от 12.03.2012\2 урок\18. Stjazhanie-Svjatogo-Duha.jpg"/>
          <p:cNvPicPr/>
          <p:nvPr/>
        </p:nvPicPr>
        <p:blipFill>
          <a:blip r:embed="rId1"/>
          <a:stretch/>
        </p:blipFill>
        <p:spPr>
          <a:xfrm>
            <a:off x="4724280" y="304920"/>
            <a:ext cx="4419720" cy="60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F:\00. УРОКИ 2013-2914\01. ДНК\2-год обучения от 14.03. 2012 год\1-10 уроки. Святая Русь от 12.03.2012\2 урок\19. Нимб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60948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Нимб – символ свят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0" t="0" r="156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4700520" y="6072120"/>
            <a:ext cx="427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УТИ  К  СВЯТ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Таблица 2" descr=""/>
          <p:cNvPicPr/>
          <p:nvPr/>
        </p:nvPicPr>
        <p:blipFill>
          <a:blip r:embed="rId1"/>
          <a:stretch/>
        </p:blipFill>
        <p:spPr>
          <a:xfrm>
            <a:off x="1603440" y="884160"/>
            <a:ext cx="6242040" cy="48769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"/>
          <p:cNvSpPr/>
          <p:nvPr/>
        </p:nvSpPr>
        <p:spPr>
          <a:xfrm>
            <a:off x="0" y="4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  <a:ea typeface="Times New Roman"/>
              </a:rPr>
              <a:t>Н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3399ff"/>
                </a:solidFill>
                <a:latin typeface="Arial"/>
                <a:ea typeface="Times New Roman"/>
              </a:rPr>
              <a:t>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  <a:ea typeface="Times New Roman"/>
              </a:rPr>
              <a:t>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Р    </a:t>
            </a:r>
            <a:r>
              <a:rPr b="0" lang="ru-RU" sz="3200" spc="-1" strike="noStrike">
                <a:solidFill>
                  <a:srgbClr val="66ff33"/>
                </a:solidFill>
                <a:latin typeface="Arial"/>
                <a:ea typeface="Times New Roman"/>
              </a:rPr>
              <a:t>Т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ff9999"/>
                </a:solidFill>
                <a:latin typeface="Arial"/>
                <a:ea typeface="Times New Roman"/>
              </a:rPr>
              <a:t>Х 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Ч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  <a:ea typeface="Times New Roman"/>
              </a:rPr>
              <a:t>У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  <a:ea typeface="Times New Roman"/>
              </a:rPr>
              <a:t>В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  <a:ea typeface="Times New Roman"/>
              </a:rPr>
              <a:t>С</a:t>
            </a:r>
            <a:r>
              <a:rPr b="0" lang="ru-RU" sz="3200" spc="-1" strike="noStrike">
                <a:solidFill>
                  <a:srgbClr val="33ccff"/>
                </a:solidFill>
                <a:latin typeface="Arial"/>
                <a:ea typeface="Times New Roman"/>
              </a:rPr>
              <a:t>Т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  <a:ea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3657240"/>
            <a:ext cx="4343400" cy="29718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Преподобный Сергий Радонеж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F:\00. УРОКИ 2013-2914\01. ДНК\2-год обучения от 14.03. 2012 год\1-10 уроки. Святая Русь от 12.03.2012\2 урок\04. Сергий Радонежский.jpg"/>
          <p:cNvPicPr/>
          <p:nvPr/>
        </p:nvPicPr>
        <p:blipFill>
          <a:blip r:embed="rId1"/>
          <a:srcRect l="3224" t="3345" r="3224" b="2220"/>
          <a:stretch/>
        </p:blipFill>
        <p:spPr>
          <a:xfrm>
            <a:off x="4464000" y="0"/>
            <a:ext cx="4680000" cy="685800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ео 2. Сергий Радонеж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D:\02. ДНК\2-год обучения от 05. 08. 2011\ДНК\1-10 уроки. Святая Русь от 30.10.2011\2 урок\06. Видение отрока Варфоломе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Видение отрока Варфоломе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724280"/>
            <a:ext cx="4191120" cy="19051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Преподобный</a:t>
            </a:r>
            <a:br>
              <a:rPr sz="4400"/>
            </a:b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Серафим</a:t>
            </a:r>
            <a:br>
              <a:rPr sz="4400"/>
            </a:b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Саровск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F:\00. УРОКИ 2013-2914\01. ДНК\2-год обучения от 14.03. 2012 год\1-10 уроки. Святая Русь от 12.03.2012\2 урок\07. Серафим Саровский.jpg"/>
          <p:cNvPicPr/>
          <p:nvPr/>
        </p:nvPicPr>
        <p:blipFill>
          <a:blip r:embed="rId1"/>
          <a:srcRect l="2925" t="2219" r="2859" b="2219"/>
          <a:stretch/>
        </p:blipFill>
        <p:spPr>
          <a:xfrm>
            <a:off x="4038480" y="0"/>
            <a:ext cx="5105520" cy="690408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880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ДЕО 2.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ерафим Саровски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647960"/>
            <a:ext cx="4343400" cy="190476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Блаженная Ксения Петербург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F:\00. УРОКИ 2013-2914\01. ДНК\2-год обучения от 14.03. 2012 год\1-10 уроки. Святая Русь от 12.03.2012\2 урок\09. Бл. Ксения.jpg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део 3.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сения Петербургская – молитвенница за нар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део 4. Ксения Блажен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16:21:09Z</dcterms:created>
  <dc:creator>Ольга</dc:creator>
  <dc:description/>
  <dc:language>en-US</dc:language>
  <cp:lastModifiedBy>Olga</cp:lastModifiedBy>
  <dcterms:modified xsi:type="dcterms:W3CDTF">2015-12-01T17:21:06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