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2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5F0-7FAA-4268-9274-A8EF826C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44D-8B1C-4228-B7E6-CC11333C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181D-B459-47DD-958A-4164B0B9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941-9684-4DC2-A7D3-057B5719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BDCF-EEC7-4818-9D71-43380BE91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50F0-183B-44ED-AD00-063E3A2D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99D-6AC4-45C1-9C1A-84FE0BE7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7CC-8DE3-4CAB-8BB6-695F68A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C84-4E01-4BA8-AF35-5842E7B6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CBD-2D71-4D2A-A48D-CB270EE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9CD-794D-4B1F-9EF7-B1311440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966-1784-48D8-84E1-AE26029F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0212-E636-4AE7-8F00-F00992C930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Занятие 2. Святая Рус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D:\02. ДНК\2-год обучения от 05. 08. 2011\ДНК\1-10 уроки. Святая Русь от 30.10.2011\1 урок\12. Святая Русь..jpg"/>
          <p:cNvPicPr/>
          <p:nvPr/>
        </p:nvPicPr>
        <p:blipFill>
          <a:blip r:embed="rId1"/>
          <a:stretch/>
        </p:blipFill>
        <p:spPr>
          <a:xfrm>
            <a:off x="0" y="1150920"/>
            <a:ext cx="91440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F:\00. УРОКИ 2013-2914\01. ДНК\2-год обучения от 14.03. 2012 год\1-10 уроки. Святая Русь от 12.03.2012\1 урок\07. Угодник Божий.jpg"/>
          <p:cNvPicPr/>
          <p:nvPr/>
        </p:nvPicPr>
        <p:blipFill>
          <a:blip r:embed="rId1"/>
          <a:stretch/>
        </p:blipFill>
        <p:spPr>
          <a:xfrm>
            <a:off x="2286000" y="0"/>
            <a:ext cx="58356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Угодник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ожий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–</a:t>
            </a: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 человек, угодивший Богу святою, непорочною жизнью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57200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вятые угодники Божии своей чистой и непорочной жизнью освятили каждую пядь Русской Зем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00. УРОКИ 2013-2914\01. ДНК\2-год обучения от 14.03. 2012 год\1-10 уроки. Святая Русь от 12.03.2012\1 урок\09. Святые Земли русской.jpg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ео 1. Образ и подобие Бож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495680" cy="544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бы на том месте, где жил святой, зажечь свечу, то вся Русь покроется такими свечами.  Святая Русь – это море святого ог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F:\00. УРОКИ 2013-2914\01. ДНК\2-год обучения от 14.03. 2012 год\1-10 уроки. Святая Русь от 12.03.2012\1 урок\11. Cвятая Русь.jpg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вятая Русь – это, прежде всего, люди, хранящие православную вер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F:\00. УРОКИ 2013-2914\01. ДНК\2-год обучения от 14.03. 2012 год\1-10 уроки. Святая Русь от 12.03.2012\1 урок\12. Святая Русь..jpg"/>
          <p:cNvPicPr/>
          <p:nvPr/>
        </p:nvPicPr>
        <p:blipFill>
          <a:blip r:embed="rId1"/>
          <a:stretch/>
        </p:blipFill>
        <p:spPr>
          <a:xfrm>
            <a:off x="-11160" y="1143000"/>
            <a:ext cx="9155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Священное Писание - Биб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F:\00. УРОКИ 2013-2914\01. ДНК\2-год обучения от 14.03. 2012 год\1-10 уроки. Святая Русь от 12.03.2012\1 урок\13. Священное Писание.jpg"/>
          <p:cNvPicPr/>
          <p:nvPr/>
        </p:nvPicPr>
        <p:blipFill>
          <a:blip r:embed="rId1"/>
          <a:stretch/>
        </p:blipFill>
        <p:spPr>
          <a:xfrm>
            <a:off x="609480" y="762120"/>
            <a:ext cx="8104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1613160"/>
            <a:ext cx="32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Что такое эта «Святая Русь»? Это вовсе не то же, что Россия; это не вся страна в целом со всем греховным и низким, что в ней всегда бы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Биографии выдающихся людей России.Академик Дмитрий Сергеевич Лихачев"/>
          <p:cNvPicPr/>
          <p:nvPr/>
        </p:nvPicPr>
        <p:blipFill>
          <a:blip r:embed="rId1"/>
          <a:stretch/>
        </p:blipFill>
        <p:spPr>
          <a:xfrm>
            <a:off x="3333600" y="0"/>
            <a:ext cx="5810400" cy="46483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5"/>
          <p:cNvSpPr/>
          <p:nvPr/>
        </p:nvSpPr>
        <p:spPr>
          <a:xfrm>
            <a:off x="0" y="472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«Святая Русь»—это прежде всего святыни Русской Земли в их соборности, в их целом. Это ее монастыри, церкви, священство, мощи, иконы, священные сосуды, праведники, святые события истории Рус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                                           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Дмитрий Сергеевич Лихачё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00. УРОКИ 2013-2914\01. ДНК\2-год обучения от 14.03. 2012 год\1-10 уроки. Святая Русь от 12.03.2012\1 урок\14. Раскрытая  Библия.jpg"/>
          <p:cNvPicPr/>
          <p:nvPr/>
        </p:nvPicPr>
        <p:blipFill>
          <a:blip r:embed="rId1"/>
          <a:stretch/>
        </p:blipFill>
        <p:spPr>
          <a:xfrm>
            <a:off x="7920" y="-7920"/>
            <a:ext cx="91360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00. УРОКИ 2013-2914\01. ДНК\2-год обучения от 14.03. 2012 год\1-10 уроки. Святая Русь от 12.03.2012\1 урок\15. Русские святые.jpg"/>
          <p:cNvPicPr/>
          <p:nvPr/>
        </p:nvPicPr>
        <p:blipFill>
          <a:blip r:embed="rId1"/>
          <a:srcRect l="3061" t="2222" r="2809" b="4444"/>
          <a:stretch/>
        </p:blipFill>
        <p:spPr>
          <a:xfrm>
            <a:off x="3733920" y="-38160"/>
            <a:ext cx="5410080" cy="67820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3733920" cy="620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 всей «территории» Святой Руси нарисуйте горящие свечи, которые как бы олицетворяют собой святых Земли Русской.  Этим светом освящается не только Русь, но и другие зем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кажи предположение, используя подсказку, какие цифры могли бы стоять на месте пропусков: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еление России на 2012 год составляет … челове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я граничит с … странами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сно данным переписи населения 2010 года, в России проживают представители более … национ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ы России говорят более чем на … языках и диалекта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сский язык является родным примерно для … граждан России (92 % населения Росси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казка: (130 000 000),  (18), (100), (143 030 106), (200 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Таблица 2" descr=""/>
          <p:cNvPicPr/>
          <p:nvPr/>
        </p:nvPicPr>
        <p:blipFill>
          <a:blip r:embed="rId1"/>
          <a:stretch/>
        </p:blipFill>
        <p:spPr>
          <a:xfrm>
            <a:off x="895320" y="585720"/>
            <a:ext cx="7205760" cy="61563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4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  <a:ea typeface="Times New Roman"/>
              </a:rPr>
              <a:t>Н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Д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99ff"/>
                </a:solidFill>
                <a:latin typeface="Arial"/>
                <a:ea typeface="Times New Roman"/>
              </a:rPr>
              <a:t>К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Р    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И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ff00ff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Ч</a:t>
            </a:r>
            <a:r>
              <a:rPr b="1" lang="ru-RU" sz="3200" spc="-1" strike="noStrike">
                <a:solidFill>
                  <a:srgbClr val="ff9900"/>
                </a:solidFill>
                <a:latin typeface="Arial"/>
                <a:ea typeface="Times New Roman"/>
              </a:rPr>
              <a:t>У</a:t>
            </a:r>
            <a:r>
              <a:rPr b="1" lang="ru-RU" sz="3200" spc="-1" strike="noStrike">
                <a:solidFill>
                  <a:srgbClr val="cc00cc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  <a:ea typeface="Times New Roman"/>
              </a:rPr>
              <a:t>С</a:t>
            </a:r>
            <a:r>
              <a:rPr b="1" lang="ru-RU" sz="3200" spc="-1" strike="noStrike">
                <a:solidFill>
                  <a:srgbClr val="33ccff"/>
                </a:solidFill>
                <a:latin typeface="Arial"/>
                <a:ea typeface="Times New Roman"/>
              </a:rPr>
              <a:t>Т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  <a:ea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9231" b="5467"/>
          <a:stretch/>
        </p:blipFill>
        <p:spPr>
          <a:xfrm>
            <a:off x="4910040" y="0"/>
            <a:ext cx="4233960" cy="571500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4" descr="02. Святая Земля.jpg"/>
          <p:cNvPicPr/>
          <p:nvPr/>
        </p:nvPicPr>
        <p:blipFill>
          <a:blip r:embed="rId2"/>
          <a:stretch/>
        </p:blipFill>
        <p:spPr>
          <a:xfrm>
            <a:off x="0" y="3505320"/>
            <a:ext cx="5224320" cy="3352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95288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Святая Земля находится от нас далеко на юге в государстве Израи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F:\00. УРОКИ 2013-2914\01. ДНК\2-год обучения от 14.03. 2012 год\1-10 уроки. Святая Русь от 12.03.2012\1 урок\03. Рождество Христово.gif"/>
          <p:cNvPicPr/>
          <p:nvPr/>
        </p:nvPicPr>
        <p:blipFill>
          <a:blip r:embed="rId1"/>
          <a:stretch/>
        </p:blipFill>
        <p:spPr>
          <a:xfrm>
            <a:off x="-57240" y="0"/>
            <a:ext cx="927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asi7i.com/uploads/414/607/jesus_life35.jpg"/>
          <p:cNvPicPr/>
          <p:nvPr/>
        </p:nvPicPr>
        <p:blipFill>
          <a:blip r:embed="rId1"/>
          <a:stretch/>
        </p:blipFill>
        <p:spPr>
          <a:xfrm>
            <a:off x="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img1.liveinternet.ru/images/attach/c/3/76/703/76703911_0416007.jpg"/>
          <p:cNvPicPr/>
          <p:nvPr/>
        </p:nvPicPr>
        <p:blipFill>
          <a:blip r:embed="rId1"/>
          <a:stretch/>
        </p:blipFill>
        <p:spPr>
          <a:xfrm>
            <a:off x="213372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0" y="13320"/>
            <a:ext cx="914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- то, что освящено Богом и посвящено Бог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(слова-помощники: посвященное…________________________________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9720"/>
            <a:ext cx="7450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тое – посвящённое Богу, освящённо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F:\00. УРОКИ 2013-2914\01. ДНК\2-год обучения от 14.03. 2012 год\1-10 уроки. Святая Русь от 12.03.2012\1 урок\06 Святая Русь.jpg"/>
          <p:cNvPicPr/>
          <p:nvPr/>
        </p:nvPicPr>
        <p:blipFill>
          <a:blip r:embed="rId1"/>
          <a:stretch/>
        </p:blipFill>
        <p:spPr>
          <a:xfrm>
            <a:off x="304920" y="781200"/>
            <a:ext cx="8572320" cy="6076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Arial"/>
              </a:rPr>
              <a:t>Святая Ру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2T16:21:09Z</dcterms:created>
  <dc:creator>Ольга</dc:creator>
  <dc:description/>
  <dc:language>en-US</dc:language>
  <cp:lastModifiedBy>Olga</cp:lastModifiedBy>
  <dcterms:modified xsi:type="dcterms:W3CDTF">2015-04-25T21:14:12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