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8DA6-AE85-4C02-BB79-1D0DC29B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D899-D710-42DC-BEE3-76BDEFD3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F6B-F78E-4AD8-B658-3D6358A2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6AF-BF88-4F7E-939A-3764B15F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115-86D6-422F-8E16-524040E0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550-93CE-4BE3-A5E2-DAB7D55C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920-D817-4149-8207-D711B556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FC6-C985-46EE-9CFE-6CB2C5B9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AB0-77CD-43EB-94AF-85EBF1AD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DD2F-1D1D-45CF-A09E-DE120695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776-FE30-4D89-8882-E2F44E46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CC2-57BD-4B5B-AC8B-52EFBC6C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8854-029A-4674-B06A-20389F1C0B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нятие 3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ЯТОЙ – ЗНАЧИТ ОСВЯЩЁННЫ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F:\00. УРОКИ 2013-2914\01. ДНК\2-год обучения от 14.03. 2012 год\1-10 уроки. Святая Русь от 12.03.2012\2 урок\02. Святой.jpg"/>
          <p:cNvPicPr/>
          <p:nvPr/>
        </p:nvPicPr>
        <p:blipFill>
          <a:blip r:embed="rId1"/>
          <a:stretch/>
        </p:blipFill>
        <p:spPr>
          <a:xfrm>
            <a:off x="762120" y="1295280"/>
            <a:ext cx="754380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4114800" cy="20574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Преподобная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Мария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Египет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:\00. УРОКИ 2013-2914\01. ДНК\2-год обучения от 14.03. 2012 год\1-10 уроки. Святая Русь от 12.03.2012\2 урок\12. Преп Мария Египетская.jpg"/>
          <p:cNvPicPr/>
          <p:nvPr/>
        </p:nvPicPr>
        <p:blipFill>
          <a:blip r:embed="rId1"/>
          <a:srcRect l="0" t="0" r="0" b="1937"/>
          <a:stretch/>
        </p:blipFill>
        <p:spPr>
          <a:xfrm>
            <a:off x="4789440" y="0"/>
            <a:ext cx="435456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00. УРОКИ 2013-2914\01. ДНК\2-год обучения от 14.03. 2012 год\1-10 уроки. Святая Русь от 12.03.2012\2 урок\17. Дела и житие Сергия Радонежского.jpg"/>
          <p:cNvPicPr/>
          <p:nvPr/>
        </p:nvPicPr>
        <p:blipFill>
          <a:blip r:embed="rId1"/>
          <a:stretch/>
        </p:blipFill>
        <p:spPr>
          <a:xfrm>
            <a:off x="1143000" y="0"/>
            <a:ext cx="734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66294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мб изображает сияние света и славы Божией, которая преображает человека, соединившегося с Бого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F:\00. УРОКИ 2013-2914\01. ДНК\2-год обучения от 14.03. 2012 год\1-10 уроки. Святая Русь от 12.03.2012\2 урок\18. Stjazhanie-Svjatogo-Duha.jpg"/>
          <p:cNvPicPr/>
          <p:nvPr/>
        </p:nvPicPr>
        <p:blipFill>
          <a:blip r:embed="rId1"/>
          <a:stretch/>
        </p:blipFill>
        <p:spPr>
          <a:xfrm>
            <a:off x="4724280" y="304920"/>
            <a:ext cx="441972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:\00. УРОКИ 2013-2914\01. ДНК\2-год обучения от 14.03. 2012 год\1-10 уроки. Святая Русь от 12.03.2012\2 урок\19. Нимб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6094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Нимб – символ свят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0" t="0" r="156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4700520" y="6072120"/>
            <a:ext cx="42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УТИ  К  СВЯТ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Таблица 2" descr=""/>
          <p:cNvPicPr/>
          <p:nvPr/>
        </p:nvPicPr>
        <p:blipFill>
          <a:blip r:embed="rId1"/>
          <a:stretch/>
        </p:blipFill>
        <p:spPr>
          <a:xfrm>
            <a:off x="1603440" y="884160"/>
            <a:ext cx="6242040" cy="4876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0" y="4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Н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99ff"/>
                </a:solidFill>
                <a:latin typeface="Arial"/>
                <a:ea typeface="Times New Roman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Р    </a:t>
            </a:r>
            <a:r>
              <a:rPr b="0" lang="ru-RU" sz="3200" spc="-1" strike="noStrike">
                <a:solidFill>
                  <a:srgbClr val="66ff33"/>
                </a:solidFill>
                <a:latin typeface="Arial"/>
                <a:ea typeface="Times New Roman"/>
              </a:rPr>
              <a:t>Т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ff9999"/>
                </a:solidFill>
                <a:latin typeface="Arial"/>
                <a:ea typeface="Times New Roman"/>
              </a:rPr>
              <a:t>Х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Ч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  <a:ea typeface="Times New Roman"/>
              </a:rPr>
              <a:t>У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С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  <a:ea typeface="Times New Roman"/>
              </a:rPr>
              <a:t>Т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  <a:ea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3657240"/>
            <a:ext cx="4343400" cy="2971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Преподобный Сергий Радонеж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F:\00. УРОКИ 2013-2914\01. ДНК\2-год обучения от 14.03. 2012 год\1-10 уроки. Святая Русь от 12.03.2012\2 урок\04. Сергий Радонежский.jpg"/>
          <p:cNvPicPr/>
          <p:nvPr/>
        </p:nvPicPr>
        <p:blipFill>
          <a:blip r:embed="rId1"/>
          <a:srcRect l="3224" t="3345" r="3224" b="2220"/>
          <a:stretch/>
        </p:blipFill>
        <p:spPr>
          <a:xfrm>
            <a:off x="4464000" y="0"/>
            <a:ext cx="468000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ео 2. Сергий Радонеж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D:\02. ДНК\2-год обучения от 05. 08. 2011\ДНК\1-10 уроки. Святая Русь от 30.10.2011\2 урок\06. Видение отрока Варфоломе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Видение отрока Варфолом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24280"/>
            <a:ext cx="4191120" cy="19051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Преподобный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Серафим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Саров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F:\00. УРОКИ 2013-2914\01. ДНК\2-год обучения от 14.03. 2012 год\1-10 уроки. Святая Русь от 12.03.2012\2 урок\07. Серафим Саровский.jpg"/>
          <p:cNvPicPr/>
          <p:nvPr/>
        </p:nvPicPr>
        <p:blipFill>
          <a:blip r:embed="rId1"/>
          <a:srcRect l="2925" t="2219" r="2859" b="2219"/>
          <a:stretch/>
        </p:blipFill>
        <p:spPr>
          <a:xfrm>
            <a:off x="4038480" y="0"/>
            <a:ext cx="5105520" cy="690408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ЕО 2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рафим Саровски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647960"/>
            <a:ext cx="4343400" cy="19047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Блаженная Ксения Петербург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:\00. УРОКИ 2013-2914\01. ДНК\2-год обучения от 14.03. 2012 год\1-10 уроки. Святая Русь от 12.03.2012\2 урок\09. Бл. Ксения.jpg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ео 3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сения Петербургская – молитвенница за на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ео 4. Ксения Блажен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6:21:09Z</dcterms:created>
  <dc:creator>Ольга</dc:creator>
  <dc:description/>
  <dc:language>en-US</dc:language>
  <cp:lastModifiedBy>Olga</cp:lastModifiedBy>
  <dcterms:modified xsi:type="dcterms:W3CDTF">2015-12-01T17:21:0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